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CE0EF-72DD-4075-AC0D-5574D91C7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DF078-3E3E-4BE2-AD85-A3E0144B7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3C9CD-C063-47FD-8AF1-B6811CA09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382E2-4114-4E12-983D-30DA36EB0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1A776-A76E-47FA-9502-74D312363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03014-6392-4D1D-A5AD-1998C9CB9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2DDA3-755F-4552-A953-446EF0B86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A76CE-F2D3-47CA-804E-7C125261E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3CE36-83B9-4159-BFD4-D73AD225A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C9C6E-4E1F-42FC-B8A5-1E27051F1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6F49C-9100-47A1-B07B-1845E922F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06182-A9D8-482F-831E-24416C55D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211CB-FF5E-4DB4-B8CA-A83B577AB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34245-2064-49ED-BFB8-1CCE6BB6E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46C61-6B57-451E-A94D-F775513B5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F8BC5-5F35-49FB-950C-7F687A67A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E1D24-E915-4D53-BE8D-594866B7B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E20F29-810E-46E3-A0FC-5773D0E4E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2501DB-9621-4957-98AF-4710DD462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01F555-4165-463E-9441-1A1572EFF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D6C772-E019-48D0-889A-CDF93D0D0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CB04BC-6E0C-4000-AE33-71D300D0A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36BC0-B2B9-4D9D-B140-68733A310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4E08D7-B38C-4824-8034-BD8C11657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44F138-C8E7-4EAA-9AC8-F753E3EC0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715B02-34AD-447B-9B20-498789586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97AE8E-44C5-4837-B1B3-99DD3B7F9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293FE3-4CCF-45C6-AAD1-A58F2E168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CF29AC-1650-4E41-8575-D64253BFB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969F28-A7F6-40A5-8549-F1BCB5DF5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ADBA14-CCB6-48D8-97FB-3E0479908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4C7E3B-5A71-4B25-8FBD-6CC32428B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65566F-5569-4501-B0C1-31779EDFB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F3BB1-E578-43C8-B4B8-BD495A64B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CD7BE5-2922-41DE-9D97-2E4AC8C37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0B0CD0-1988-448E-B7C7-FAC636784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F167A2-BA60-47BE-A10C-D75D2D4B9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04DB11-FEEA-4020-98A4-F30BF64B0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2E7C67-0650-40EB-820D-EF50340DF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86EFD3-4DF8-4932-AD3F-D5172CD4E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CC8CB0-95FB-44EF-B774-D975E2637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D4E57E-A2B9-4946-941F-A6D404233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EF6D01-0502-47A6-88FA-8615C5C81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6E5DA-9705-4E6B-AF49-4AAAB7EBB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3CA2B-C182-4320-95ED-5DEC6D919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9BC2E-9E49-4F4E-A7EC-68B5D5BFB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047D6-7133-47CD-9703-1D55340A0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6E795-5759-4AB8-8ED4-32078EFC4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82DCC-DDD5-41FB-A462-DE3988F92F82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35E20-3C85-4B5C-8B2D-F81A72CBE5E3}" type="slidenum">
              <a:rPr b="0" lang="en-US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F26BA-89DB-453C-A74D-E1D8AEEEAB86}" type="slidenum">
              <a:rPr b="0" lang="en-US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1F935-655E-4E20-AA50-AE752A911A94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Box 9"/>
          <p:cNvSpPr/>
          <p:nvPr/>
        </p:nvSpPr>
        <p:spPr>
          <a:xfrm>
            <a:off x="1676520" y="1828800"/>
            <a:ext cx="57909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bcTeacher"/>
              </a:rPr>
              <a:t>ixquick.com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Box 10"/>
          <p:cNvSpPr/>
          <p:nvPr/>
        </p:nvSpPr>
        <p:spPr>
          <a:xfrm>
            <a:off x="3124080" y="30481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y: Elsa Figuero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Overview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What is a meta-search engin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ackgroun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What is ixquick.com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411 on ixquick.com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How to search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arch result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Calibri"/>
              <a:buChar char="@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What is a Search Engine?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llows you to search engines and directories simultaneousl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t takes your query, do the seach and then integrates the result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2" name="Picture 2" descr=""/>
          <p:cNvPicPr/>
          <p:nvPr/>
        </p:nvPicPr>
        <p:blipFill>
          <a:blip r:embed="rId1"/>
          <a:srcRect l="68232" t="25354" r="1827" b="36457"/>
          <a:stretch/>
        </p:blipFill>
        <p:spPr>
          <a:xfrm>
            <a:off x="762120" y="1905120"/>
            <a:ext cx="6476760" cy="43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Background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rivate Compan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nded in 1998 by David Bodnick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ased in New York and the Netherland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2000- bought by a Dutch company - Surfboard Holding BV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4617b"/>
                </a:solidFill>
                <a:latin typeface="AbcTeacher"/>
              </a:rPr>
              <a:t>What is ixquick.com</a:t>
            </a:r>
            <a:endParaRPr b="0" lang="en-US" sz="6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6840" y="1752480"/>
            <a:ext cx="74674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Ixquick is the world's most powerful search engine employing the most advanced metasearch technology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More comprehensive search result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More accurate search result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Advanced Search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Global Internet Search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Power Search Refinement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Search from Anywher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Calibri"/>
              <a:buChar char="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411 on ixquick.com</a:t>
            </a:r>
            <a:br>
              <a:rPr sz="4500"/>
            </a:b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nnounced that it is developing an email servic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2009-no longer records IP address at al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2006- became the first meta-search engine to delete private details of its user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ll personal information deletes within 48 hou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Does not share users info with other search engin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How to search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0" name="Picture 2" descr=""/>
          <p:cNvPicPr/>
          <p:nvPr/>
        </p:nvPicPr>
        <p:blipFill>
          <a:blip r:embed="rId1"/>
          <a:srcRect l="20415" t="32918" r="25147" b="39867"/>
          <a:stretch/>
        </p:blipFill>
        <p:spPr>
          <a:xfrm>
            <a:off x="1066680" y="1676520"/>
            <a:ext cx="6705720" cy="2514600"/>
          </a:xfrm>
          <a:prstGeom prst="rect">
            <a:avLst/>
          </a:prstGeom>
          <a:ln w="0">
            <a:noFill/>
          </a:ln>
        </p:spPr>
      </p:pic>
      <p:cxnSp>
        <p:nvCxnSpPr>
          <p:cNvPr id="211" name="Straight Arrow Connector 5"/>
          <p:cNvCxnSpPr/>
          <p:nvPr/>
        </p:nvCxnSpPr>
        <p:spPr>
          <a:xfrm flipV="1">
            <a:off x="1980720" y="3276000"/>
            <a:ext cx="686520" cy="5338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Search Result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3" name="Picture 4" descr=""/>
          <p:cNvPicPr/>
          <p:nvPr/>
        </p:nvPicPr>
        <p:blipFill>
          <a:blip r:embed="rId1"/>
          <a:srcRect l="0" t="3617" r="2344" b="7087"/>
          <a:stretch/>
        </p:blipFill>
        <p:spPr>
          <a:xfrm>
            <a:off x="1066680" y="1447920"/>
            <a:ext cx="646596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6T18:26:55Z</dcterms:created>
  <dc:creator>ccstudent</dc:creator>
  <dc:description/>
  <dc:language>en-US</dc:language>
  <cp:lastModifiedBy>ccstudent</cp:lastModifiedBy>
  <dcterms:modified xsi:type="dcterms:W3CDTF">2011-03-05T14:19:47Z</dcterms:modified>
  <cp:revision>23</cp:revision>
  <dc:subject/>
  <dc:title>Slide 1</dc:title>
</cp:coreProperties>
</file>